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18CE1-A4A3-497A-9C85-1A5992FA85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5F36B-8D63-4236-8AD1-806C380CC6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4CF6C-4AE9-4EFE-8A8B-5DD435E8E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A775B-FFEE-48F9-B54B-B1E4762AFE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64B9E-B867-4CC6-A52E-9BA9FCAE4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A4DB1-446E-46D4-890E-63370A142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6C0B0-7D85-48D7-9215-3DBF435FD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33279-D99F-49E2-B7C9-877C64E76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F32C6-08A7-4BC3-9252-E39C0C0793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s do this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B23AB-3FA4-4D27-8238-1817AC7C25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econd question is rarely asked, but is impor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kids will not read carefully and say 2.90 and 4.60– so need to attend to decoding problems or checking that you meet all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kids will have difficulty with the actual calculations with these complex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kids will be very inefficient, e.g. start at 7.50, split it one step at a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kids will get one answer and think that there are no other answers because there is always one ans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1F6EA-7237-4B8C-8000-2CDD0EBE07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kids will not read carefully and say 2.90 and 4.60– so need to attend to decoding problems or checking that you meet all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kids will have difficulty with the actual calculations with these complex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kids will be very inefficient, e.g. start at 7.50, split it one step at a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kids will get one answer and think that there are no other answers because there is always one ans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DAEAC-EA9D-425F-B428-F145540F8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222BC-95D4-4081-BA51-9CDB6F361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61375-FC5E-4A13-9B3E-A2A9C4FD5A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24062-E7DC-4B4E-A46E-D7134909D8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355B1-57A8-4A9A-828D-FA528A267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discuss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F62E2-AA8A-4AF8-AB6D-26B1FA850B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discuss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5E6AF-3587-4B4E-A660-104E57945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5D9E4-183B-4EBD-8B49-4B12349F2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DF401-D5DF-4F6F-923E-60BC695D1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5C86D-A23F-4C62-8FBE-3E4B0F03C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41225-C87A-4E30-B0D3-B964051C2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C88C7-5D6E-4CF7-8509-BDA343D0A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C4284-862F-43EE-B6B7-2C25E6FA1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D2FBD-0DC4-4656-BCC9-69F334CB5D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2DB39-BE38-41B2-B78B-3F6CC3813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9788D-3DA7-4CED-AE11-55C602FE2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D67D1-E351-4FDC-8AFB-4ACCAA2F6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9D97D-EEF6-4FAE-B0C5-6924EE18D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FB6A4-13D8-4E99-8EAD-704B750C25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8A685-D34A-4992-8CCD-E0D1D7AC6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03FFE-B9E6-4FE8-952C-1DD3078CFF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have used positive coordinates if I see this as a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2293A-68FF-4DB5-B326-5AB5049257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B8A5E-9185-4A34-A145-5E5B4F137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BA727-7268-4F25-B0F8-ADC335B34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30CD6-EFDF-49D8-BA50-C91692F774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BDFC1-5B84-4D26-BC9D-6F16B11D2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7822C-F349-48E6-8F85-3AEE0183F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16E45-7F40-42F2-9A5F-2A7B935B0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76E71-D176-4B3F-8C59-DD2A89817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946E5-CA62-4546-BB8C-543D28102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122C0-1B8C-4549-A9C4-2E8E3EA94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EFE13-91B7-453C-826B-D6A47273F1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how different but 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45945-7BB5-42C7-ADDA-E8CFBA84E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AAB55-541F-462D-B387-F0E1AF6814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B9D6D-8B7D-46E8-A152-47B417A131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4A638-9DBF-448B-94AC-61D134E73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e BLM 1 that summarizes previous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904C2-49BE-4C2F-BC47-F905C629B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e BLM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6AD43-E992-488F-BDA8-D10D90157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B546D-985C-4EEF-A607-85B4D1866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1703B-4411-4376-9270-9950A54181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C1C04-F53F-4822-A867-0CB6AA83A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00973-4C29-4203-88A6-CBADFECCB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0BE3B-F8E7-4143-8779-5A1C73AE8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9FBC1-CBA2-4C85-9BAE-27BE8AA83A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3F547-CBA7-4933-BBB7-AF7632FE6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B6DF-2320-4675-AC4D-EB901EA14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6A96-65AD-45DA-8FAA-4700149F3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85D4-B68A-43EB-99A1-CF7DF0FFB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6C05-42E6-4656-AE3F-8503F20A7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F94F5-229D-4623-BFC8-4E707EA93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04343-9D0C-448C-BD90-50CED09A1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372F8-EDB2-4A5A-AE2C-0EF9D451C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52FCE-7146-4207-8ED5-B205F4856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F4884-3151-4A70-82FA-2A0736171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9494E-6B26-490D-8CF8-7FE81DF15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CBA40-1582-45C2-8593-125027B8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37A0-DD97-4AB9-ACFD-B01444D82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8AFF7-3742-4966-9BF9-4406A444E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88AAC-6B03-4310-A40B-8A40A4D22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9A045-6AFA-470E-BBC3-B5B044199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3744D-7AB6-40A8-A1D0-5A4B5EB5F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FA2D0-1206-4336-8237-B48DE5423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FEFC-D4CA-4273-ABCE-3DC38F0A4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A7E5-9D28-497D-A6F9-A72C16BD8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D949-C001-4B4C-B945-698A90176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6320-C847-45C5-9A72-77A4839A6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C402-DD6D-46DB-A82D-6E844D2B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CDA5-492F-40A9-AEB9-5729BA15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0D89-63F8-44C8-B8F6-CB507A71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1D997-67DB-4D4C-BA78-F92002C94823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5" name="Picture 12" descr=""/>
          <p:cNvPicPr/>
          <p:nvPr/>
        </p:nvPicPr>
        <p:blipFill>
          <a:blip r:embed="rId2"/>
          <a:stretch/>
        </p:blipFill>
        <p:spPr>
          <a:xfrm>
            <a:off x="7343640" y="-27000"/>
            <a:ext cx="1441440" cy="11811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Untitled-1"/>
          <p:cNvPicPr/>
          <p:nvPr/>
        </p:nvPicPr>
        <p:blipFill>
          <a:blip r:embed="rId3"/>
          <a:stretch/>
        </p:blipFill>
        <p:spPr>
          <a:xfrm>
            <a:off x="380880" y="380880"/>
            <a:ext cx="6853320" cy="15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90C4C-9A6F-49F0-A788-80E6F5BDC1BC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1763640" y="838080"/>
            <a:ext cx="5545080" cy="45468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1"/>
          <p:cNvSpPr/>
          <p:nvPr/>
        </p:nvSpPr>
        <p:spPr>
          <a:xfrm>
            <a:off x="431640" y="53370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Book Antiqua"/>
              </a:rPr>
              <a:t>Plenary 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BI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8CB04-8432-467F-A78D-CDACE9D95E8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3"/>
          <p:cNvSpPr/>
          <p:nvPr/>
        </p:nvSpPr>
        <p:spPr>
          <a:xfrm>
            <a:off x="914400" y="1676520"/>
            <a:ext cx="7416720" cy="44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are y = 3x +2 a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 = 5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ik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4C667-E135-4C38-BC45-655051BD91C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1155600" y="990720"/>
            <a:ext cx="676908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914400" y="1676520"/>
            <a:ext cx="741672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do you know a relation is linea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E56EC-2E7F-45E9-BB61-85020CCCD4C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1155600" y="990720"/>
            <a:ext cx="676908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914400" y="1676520"/>
            <a:ext cx="7416720" cy="54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graph of a linear relation goes through (2,3) and has slope 4. What is it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0DA75-2FAB-4A7F-9C74-23FCC14747D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685800" y="99072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Parking L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990720" y="1905120"/>
            <a:ext cx="741672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ill talk about parking lot questions at the end of the da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91EE1-FE48-4CE6-8E8B-D77721465D8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Bridging the g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914400" y="1676520"/>
            <a:ext cx="741672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t’s look at a problem to see how thinking about difficulties students might have could affect subsequent lesson goals or could affect the task you se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A3658-D1BB-49E3-964B-CAAEB8D2859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uppose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1066680" y="1828800"/>
            <a:ext cx="7417080" cy="85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want your students to solve this problem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randon and Alexis counted their money. Between them, they had $7.50, but Brandon had $2.90 more than Alexi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20A82-772C-46B8-A952-C5E56918835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irst solv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 both pa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1066680" y="1828800"/>
            <a:ext cx="7417080" cy="78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randon and Alexis counted their money. Between them, they had $7.50, but Brandon had $2.90 more than Alex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) How much did each ha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) How do you know there are no other answe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4EFEB-A80C-43CF-8020-F4245DA8440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Let’s talk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1066680" y="1828800"/>
            <a:ext cx="741708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t’s make a list of a “top 5” anticipated problem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AB115-D1BB-4280-932B-5608E116574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Now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1066680" y="1828800"/>
            <a:ext cx="7417080" cy="78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cuss at your tabl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ould knowing these potential problems affect your instructional goal for one or two subsequent less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0EFD7-8154-490D-A27B-A55D3C45EAA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685800" y="99072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ik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990720" y="1905120"/>
            <a:ext cx="7416720" cy="64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 posted what we did yesterday (nothing that I didn’t do) except the BLM with the reshaped goals have sample consolidating question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4EBCA-87FE-4F72-B7BF-8A0454B3291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O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066680" y="1828800"/>
            <a:ext cx="741708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ould it lead you to differentiate instruction instea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55C69-7A97-4886-BF61-58DCA606EA7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DI requi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90720" y="2590920"/>
            <a:ext cx="7416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ocus on big ideas (to have something big enough to differentiat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11D72-9509-4111-814F-BEEDC165522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DI requi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990720" y="2590920"/>
            <a:ext cx="7416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or assessment (to know the need to and direction to differentiat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63108-CCA3-4354-9919-64B9DF570A5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7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DI requi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990720" y="2590920"/>
            <a:ext cx="741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oice (to actually differentiat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DA870-CA83-4C00-9BC7-73C658FA817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we do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990720" y="2590920"/>
            <a:ext cx="74167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onventional approach to differentiating is to scaffold-- presenting problems in bits. Maybe this is not the only or the best way, to differentiat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08F8E-C7BB-47A1-877E-A39F006AA1F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e could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990720" y="2590920"/>
            <a:ext cx="7416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ink about what difficulties students have and actually plan to address these difficulti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98F50-677C-4C5F-B94B-B308B143817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Our focus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990720" y="2590920"/>
            <a:ext cx="741672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r focus will be on two strategi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D7951-28AC-420C-8A68-78BC79524EE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5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You’ve met th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990720" y="2590920"/>
            <a:ext cx="7416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member Day 1’s open question about creating a pattern with a particular 30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ter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C98D2-EDF8-47D0-AEE7-B68F02A1073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You’ve met th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990720" y="2590920"/>
            <a:ext cx="7416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member Day 1’s task where you matched questions to big ideas but different groups used different 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31A0F-2DE1-4394-BC60-31761F52443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Anticipated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990720" y="2590920"/>
            <a:ext cx="74167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y knowing the “problem” some grade 7-9 teachers might have with grade 11 or 12 content, we differentiated the task appropriately (I hope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B9C1C-2F12-4EC8-AACA-6B0A1E47601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685800" y="990720"/>
            <a:ext cx="7620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did we do yesterda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990720" y="1905120"/>
            <a:ext cx="7416720" cy="54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 looked at the ideas tha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have to focus in on a goal you can accomplish in one less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D3A1A-3077-44EA-A9E0-A9352A33D2C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In parallel tasks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990720" y="2590920"/>
            <a:ext cx="7416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 were looking at the same instructional goal, with the “problem”  (obstacle) remove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4F82F-556A-42DF-AF11-706C6D0FF89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3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e coul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990720" y="2590920"/>
            <a:ext cx="74167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 could provide alternate versions of the money problem to deal with some of those difficulties students might have. What might they b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73E85-0D35-4576-9C42-991B22B5781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5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A different exampl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1066680" y="2895480"/>
            <a:ext cx="741708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pose this: The slope of a line is -2/3. Tell us the coordinates of two points on the lin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F2FF0-F20F-485C-B16A-070E94AC874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You could anticipat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1066680" y="2895480"/>
            <a:ext cx="7417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me students start with a point, go 2 to the right and 3 down 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29E9D-FBC2-4304-B4BD-50B39F8EA0B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You could anticipat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1066680" y="2895480"/>
            <a:ext cx="7417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me students start with a point, go 3 to the left and 2 down 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D3D94-0107-4299-9B43-A75EE22A884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You could anticipat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1066680" y="2895480"/>
            <a:ext cx="741708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udents write y =-2/3 x + 8 and substitute two different values for x  but have trouble with the arithmetic OR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31948-BE73-4043-985B-07FCE808078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You could anticipat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1066680" y="2895480"/>
            <a:ext cx="741708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at negative slopes cause trouble and recognize that some students need more time before they are ready for th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86956-AF91-43C3-875F-4FE30C864E6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Parallel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4876920" y="2057400"/>
            <a:ext cx="3733560" cy="64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line of slope 2/3 goes through (-4,-1). What is the equ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054A6-0245-4F87-A5A1-8026A95DA9D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762120" y="2149560"/>
            <a:ext cx="3733560" cy="64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line of slope -3/2 goes through (-4,-1). What is the equ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7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omm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C7C9A-2D05-4684-8E9E-01C5C9A0C6C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762120" y="2149560"/>
            <a:ext cx="777240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 you know which way your line slants? How do you kn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0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omm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3F770-E16F-445A-89F6-625BBC3BE02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762120" y="2149560"/>
            <a:ext cx="7772400" cy="54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uld (-4, 3) be on your line? How do you kn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uld (-3, 0) be on your line? How do you kn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6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did we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1041480" y="2057400"/>
            <a:ext cx="741672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have to ask a question that is really assessing your 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5AB38-6649-4A17-A1A2-F743AEE46DE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omm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B5389-2AC8-4EFD-AA32-40AA850C359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762120" y="2149560"/>
            <a:ext cx="777240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do you need to know to write the equ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you get that inform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3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omm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AE232-D3CB-4703-B12C-66F80CAAB3B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762120" y="2149560"/>
            <a:ext cx="77724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your equ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you be sure you’re righ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0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0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Basic sit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269E7-81CD-4690-83C8-8B4A23C9573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762120" y="214956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isa : $1.15 in quarters/nicke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838080" y="3200400"/>
            <a:ext cx="777240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my : $0.80 with half the quarters/twice the nicke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many of each for Lis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7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The parallel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25AA2-1056-451C-8105-4A2E637F4BE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762120" y="2149560"/>
            <a:ext cx="777240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tion 1:  Use equations to model the problem and then solve i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tion 2: Solve the problem using only number thinkin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9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omm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8CE7E-75C4-4841-BE16-76F81B7B8C5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762120" y="1905120"/>
            <a:ext cx="777240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d you need to know how much each coin was worth or just the relationship between the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did you know that Amy had an even number of nickel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0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omm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FD885-F31E-4490-958D-DEB845F2E5E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762120" y="2149560"/>
            <a:ext cx="7772400" cy="54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uld you be sure that Amy had an even number of quarters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do you know that each girl had fewer than 5 quarte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0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omm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9377E-E101-4496-93F0-1BFB5D04219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762120" y="2149560"/>
            <a:ext cx="77724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did you solve the problem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do you know your solution is correc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0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0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One mor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9E9A3-2795-416E-B5DF-F5A38B2455F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762120" y="1981080"/>
            <a:ext cx="32004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 algebra tiles to model two polynomials that add to 6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+8x+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4343400" y="1828800"/>
            <a:ext cx="36576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 algebra tiles to model two polynomials that multiply to 6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+8x+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0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7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ome comm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B5F5A-DDB2-48BA-88EC-91AFA7EB989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762120" y="1981080"/>
            <a:ext cx="7696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algebra tiles show 6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+8x+2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 there any other way to model that polynomi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4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ome comm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46B5C-26F6-4C67-A6A4-ABAB76F6360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762120" y="1981080"/>
            <a:ext cx="7696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did you arrange your til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did you figure out how to star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0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1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did we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914400" y="1676520"/>
            <a:ext cx="7416720" cy="64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your goal is about understanding or about important mathematical thinking and not just “doing”, your consolidation question has to reflect tha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794BD-C523-4E6D-AC8B-C684507CC6B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ome comm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7BD55-2044-4A11-B2C3-DB306CE9ABA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762120" y="1981080"/>
            <a:ext cx="7696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 there any other way you could have arranged the til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0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8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Your tu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70ABB-4BAA-44BF-AB2B-62F736FE479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762120" y="1752480"/>
            <a:ext cx="7696080" cy="61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 your group, choose one of the suggested set of parallel task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velop some common consolidating question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0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0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h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1A8F4-549E-4910-B5C0-295A6CBABE6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762120" y="1752480"/>
            <a:ext cx="769608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 to the one of the four corners for people who did your task. Share your questions with another group in your corn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0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7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onsoli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B9438-0986-4F78-825E-7A09F99E5DB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762120" y="1752480"/>
            <a:ext cx="769608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eate a “flow chart” to show the steps you would take to create parallel tasks. Draw on chart pap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0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onsoli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5C1A1-F1C2-4805-884C-98E46BEE0E9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762120" y="1752480"/>
            <a:ext cx="7696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cuss at your tabl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ch of the steps would be hardest to do alon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0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1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onsoli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D1ED5-A058-4B97-B090-4D824CF4DC8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762120" y="1752480"/>
            <a:ext cx="769608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st your flowchar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ticipate in a gallery walk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fill="hold">
                      <p:stCondLst>
                        <p:cond delay="0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8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BI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09DBE-69CF-4AFD-BFF9-5AEBBF42EC5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or exampl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914400" y="1676520"/>
            <a:ext cx="741672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oose two representations of your linear relation and tell how they are similar or differe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29EB9-7031-471B-98F8-3C61704F8E4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or exampl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914400" y="1676520"/>
            <a:ext cx="741672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cribe a situation where one representation is clearly more useful than the other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EA9D7-CA67-4A4A-BCB6-44ACC13C1DA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Vs.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914400" y="1676520"/>
            <a:ext cx="741672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ive an example of a situation where a graph would not hit the point of origin.  &lt;I see this as minds-on more than consolidate&gt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F3AE5-C137-4162-A7B5-7A6C65F3D23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17:26:43Z</dcterms:created>
  <dc:creator>PSteele</dc:creator>
  <dc:description/>
  <dc:language>en-US</dc:language>
  <cp:lastModifiedBy>Marian Small</cp:lastModifiedBy>
  <dcterms:modified xsi:type="dcterms:W3CDTF">2009-08-19T15:31:37Z</dcterms:modified>
  <cp:revision>258</cp:revision>
  <dc:subject/>
  <dc:title>Slide 1</dc:title>
</cp:coreProperties>
</file>